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7D9-A253-490C-96CD-E2835FA44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39AB-49E7-469B-B468-C6DFF3DD79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71D-22F4-4DEE-9713-BB8A7B77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027-F613-4FC3-8465-53DB8A47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E0E-7FB4-4DBC-9F43-B8A12AEA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C0B-375A-4EF7-8902-9075EA09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23B-1EE5-403A-AE9C-35EA568B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B3B-FBDE-4C40-BF55-5F59DFC6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875-F349-4AAD-BD95-9EFC8FF3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5CE-6FF1-422A-956B-6827759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F38-6CF0-4ABB-A393-EF8FCFA0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67C-F3C8-494D-8C1B-87DF164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76B-F3AB-4324-A5FA-3D0EF9F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A74-4DB3-4401-A909-967D879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837A-01E7-4A7C-91D3-B4F535A463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8:08:55Z</dcterms:modified>
  <cp:revision>31</cp:revision>
  <dc:subject/>
  <dc:title>What Goes Up Must Come Down</dc:title>
</cp:coreProperties>
</file>